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DF3-BEA2-4923-9965-935A75E9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10C7-C89B-4E88-AB6D-7BF10C48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2D9-201D-4D94-9B36-13BCACC9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89B-7A9B-4A8D-8F01-2D5BB1F4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68D-086B-41B0-B2CA-E6E62A34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70D2-1D26-4DB9-B818-B8C728AD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825-882C-48E7-961F-B0C42411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5BB-2F70-4161-A5C6-4099E950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672-FCFF-41E3-AFF7-A4F17633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2F1-023E-498A-BBEF-B6F48B06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F38-2C3C-45BB-A9C8-2EAFA6F8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F63-8638-4495-85F3-77D80DE1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FAB4-61FE-484F-A824-48E45E1D1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216828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2217600" cy="2667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5000" y="3697200"/>
            <a:ext cx="705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believe that artists should only ma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work about beautiful thing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believ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st’s 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o cre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images that will make people th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think?  Support y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i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403848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St. Thomas Churc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Claude Howell, American, 1915-199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seri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19.75” x 16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396252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Generator #1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Craige Sheppard, American, born 19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52” x 4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228744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34120" y="914400"/>
            <a:ext cx="2408040" cy="2895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520" y="575460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Thir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4647960"/>
            <a:ext cx="82296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 descriptive language, details, o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architecture, shape, color, space, artist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, seri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2511360" cy="3176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641320" cy="31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8720" y="609480"/>
            <a:ext cx="409716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8880" y="533520"/>
            <a:ext cx="3669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se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rtwor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think this 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thou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think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st chose to show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rch in his artwor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can you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2469960" cy="3124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6240" y="3505320"/>
            <a:ext cx="865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rtwork is made by a proces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lk sc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grap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It is a process that allows the artist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prints of the same image that are alik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serigraph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col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ied 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lors can you find in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2469960" cy="3124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3320" y="3733920"/>
            <a:ext cx="82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enoug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you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ing the church 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Exp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you say abo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gh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e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435200" cy="5333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65640" y="344520"/>
            <a:ext cx="3723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’s another ar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h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ell what kin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is shown he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de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think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st chose to create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work about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308480" cy="5181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50840" y="990720"/>
            <a:ext cx="3806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ell by looking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age how the ar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mad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appear to b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ing, a drawing o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grap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your answer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216828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2217600" cy="266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69240" y="3621240"/>
            <a:ext cx="780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place these artworks side by side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 carefully, we can see ways they are alik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ways they are very diffe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, shape, subject, patter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216828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2217600" cy="2667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4600" y="3581280"/>
            <a:ext cx="758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hink of churches in y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like to draw or paint?  What makes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hink of any bridges, factories, stores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es you would like to draw or paint?  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tho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esting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2:42:43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